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75F2-FE9E-4A98-A326-5981D767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E166-0960-429B-97F4-B642C8F8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4893-5261-4CC0-8F1F-7C97AC35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CDD7-AE02-489A-B384-9CCCE3D8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6C97-0E6A-404E-9976-567C6CEC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5FB8-D95C-43C7-9621-D44F967C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5B68-3CDA-4E7B-BFCC-4264BC42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C054-52B6-4091-BEF3-298DF6D8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2320-EFBC-4031-B70A-BA841EAD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9F24-94E3-497B-B52D-07FB4F73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16D9-9F65-47EE-BD9E-D06B786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DC88-FCCE-48A8-A4FC-8099E8D7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68DD-CA60-4B23-9BCE-150D64EC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8C74-C3C2-43D0-96CD-35F2E3B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2C27-6994-45EA-B0A4-41FEBA3C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C71E-87C8-4B3D-BF93-6F98B770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2B3E-57E2-4320-9BB3-0A29AC37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7F1F-A74B-4B64-9672-B31B9820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9A5B-06C3-4606-94E6-4B4468EF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E5C0-B98A-4DAB-AEFF-221A8738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9638-EA04-437E-B4FB-F05836F2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CB03-64DB-4441-B3CE-CE191819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0D25-2AAA-47C3-9BC0-A64D7EAF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A9FE-0597-4D14-B4F8-C82B58C5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B902-31EA-43D9-A15F-103BEFEBED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BCFA-2691-447F-A643-57859840E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ype of monoalphabetic cipher is called a multiliteral ci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other weak monoalphabetic cipher that is worth examining because it tries to do something unique - it replaces each plaintext letter with a pair of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iphertext is twice as large as the plaintext and looks very st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E4AD-7D5D-414D-9EDB-E3F843E19D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ltiliterial Cipher key is a 5 x 5 matri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ve columns and the five rows are each labeled by the same 5 letter keywor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yword cannot have any repeating le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phabet is written in the matri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atrix has only 25 slots but the alphabet has 26 letters, so the letters “i” and “j” occupy the sam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keyword is “codes” then the key matrix 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000" y="4734000"/>
            <a:ext cx="18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 g h i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m n 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 r s t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 w x 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6800" y="4419720"/>
            <a:ext cx="2139480" cy="2275920"/>
            <a:chOff x="2566800" y="4419720"/>
            <a:chExt cx="2139480" cy="2275920"/>
          </a:xfrm>
        </p:grpSpPr>
        <p:sp>
          <p:nvSpPr>
            <p:cNvPr id="119" name=""/>
            <p:cNvSpPr/>
            <p:nvPr/>
          </p:nvSpPr>
          <p:spPr>
            <a:xfrm>
              <a:off x="2879640" y="4419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 o d e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6160" y="47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4840" y="4809960"/>
              <a:ext cx="0" cy="18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6160" y="509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6160" y="54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6800" y="5829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76160" y="620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04840" y="4800240"/>
              <a:ext cx="172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889600" y="485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 e  l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19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 cs dc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36880" y="483084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483084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53355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C493-EFDE-4F2A-9578-F0519DA9EE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7T02:47:38Z</dcterms:modified>
  <cp:revision>48</cp:revision>
  <dc:subject/>
  <dc:title>CAP Cryptographic Analysis Program</dc:title>
</cp:coreProperties>
</file>